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D5F1E4-A435-4A35-9575-14C776C6D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DA94C6-3153-4CB3-AEB4-5AC1984D57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le is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775AA4-628D-4388-B5FE-9CDC796CF6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8CCF-EF76-4EE8-8EB3-029FF11B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E65B-2B0E-4DFD-A3FE-91496B6B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D0C7-D4A4-4082-B8C2-760DBF5D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1A7-A2B5-4F2B-BC8E-DE7AAE2C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B8AB-C311-4333-80A1-39CE227E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B532-458B-40FF-ACB0-7D079CBF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1D5C-439D-43ED-A7B7-DDC6049E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CBCF-3D7A-4CA4-8969-FBE0B624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0BF4-DF57-465D-BBB9-C2DF4EE4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737C-4C08-4585-A6B0-A4A24BE8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5AD5-4BDA-4499-B248-556CAA20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5A59-AD10-4C8B-8BB3-CF8A2C36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AFEA-F601-446A-9A07-C32F9129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5C5F-2AFF-497D-B24E-6D2497C9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BBD7-8E7A-4214-8A06-A6C9F779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F549-6D71-44EE-80FC-641FB9FD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E3CF-FF50-444F-9E5F-46848B62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A1E9-4E80-4E3B-906A-4851C9D0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1A2-D8C9-43CD-840A-0300C616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667-E34E-4D02-ACFB-AE94E0DE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5D7F-FCB2-44AC-81F4-D7B1869A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E71-6198-4AC8-8C54-82C5B0FA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3451-4984-4587-92F2-FB119256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AD4-C8CE-4CA2-B47C-9AAD82B3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AU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AU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5456DB-05C1-451E-A0F8-AF56DA1A0D74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ext styles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cond level</a:t>
            </a:r>
            <a:endParaRPr b="0" lang="en-A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ird level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urth level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fth level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AU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AU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C0C850-05DC-4914-9324-6AF4C9846F2A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Testbed" TargetMode="External"/><Relationship Id="rId2" Type="http://schemas.openxmlformats.org/officeDocument/2006/relationships/hyperlink" Target="http://wiki.esipfed.org/index.php/Testbed" TargetMode="External"/><Relationship Id="rId3" Type="http://schemas.openxmlformats.org/officeDocument/2006/relationships/hyperlink" Target="http://wiki.esipfed.org/index.php/Semantic_Web_Tutorials" TargetMode="External"/><Relationship Id="rId4" Type="http://schemas.openxmlformats.org/officeDocument/2006/relationships/hyperlink" Target="http://wiki.esipfed.org/index.php/Semantic_Web_Tutorials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IP Semantic Web Products and Services ‘triples’ “tutorial”</a:t>
            </a:r>
            <a:br>
              <a:rPr sz="4400"/>
            </a:br>
            <a:r>
              <a:rPr b="0" i="1" lang="en-AU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ka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sausage making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AU" sz="30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ESIP SW Cluster, Jan 6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"/>
              </a:rPr>
              <a:t>http://wiki.esipfed.org/index.php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"/>
              </a:rPr>
              <a:t>/Testbed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See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3"/>
              </a:rPr>
              <a:t>http://wiki.esipfed.org/index.php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4"/>
              </a:rPr>
              <a:t>Semantic_Web_Tutorials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ing the resources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2760" cy="480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art from the artifacts and actor resources, you may find gaps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r knowledge encoding is also a resource, make it a first class citizen, i.e. give it a namespace and a URI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ten, a test-bed with local data is very useful at the start the implementation process, i.e. pull the data, maybe even implement their service (database, etc.)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89A7A6-2EA5-4B70-8A3A-1C72786D02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24200"/>
            <a:ext cx="868644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 to the knowledge encoding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02120" y="1034280"/>
            <a:ext cx="8229240" cy="5440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larative: OWL, RDFS, SKOS?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rules?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query?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 expert review and iteration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ns you need something that they can review, with precise names, properties, relations, etc.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knowledge engineering stage is much like a software engineering process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1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AFCD5D-0415-407B-BD84-4263C113EC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is: Sample Queries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ich projects are working with semantic web technology?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technologies are being used in NASA’s ACCESS program?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e any projects working with the same dataset?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ich datasets are being used in projects working with semantic web?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Case 1: Enter Project Data (cont.)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4000"/>
          </a:bodyPr>
          <a:p>
            <a:pPr marL="466560" indent="-466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Case 1: Enter Project Data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-466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 Defini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one from the project is assigned to populate the triple store with the project information. This capability is supplied via a simple Web interface.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-466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mary Actor:  Project staff member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-466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rpose:  Enter project information into the triple store.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-466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umptions:   The staff member knows enough about his/her project to populate the fields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9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Case 1: Enter Project Data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8280" y="1144800"/>
            <a:ext cx="8747640" cy="5089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 startAt="6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enario</a:t>
            </a:r>
            <a:endParaRPr b="0" lang="en-AU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face asks for overall project information:  name and program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enters basic project information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interface saves root project triple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selects Add Staff and Web interface presents existing staff, plus blank for staff not yet in triple store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selects existing staff and possible role, and Web interface saves triples linking staff to project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selects Add Technology and Web interface presents existing technologies, plus blank for technologies not yet in triple store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selects existing technology, and Web interface saves triples linking technology to project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selects Add Datasets and Web interface presents existing datasets, plus blank for datasets not yet in triple store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selects existing dataset, and Web interface saves triples linking technology to project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 startAt="6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tensions</a:t>
            </a:r>
            <a:endParaRPr b="0" lang="en-AU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b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enters new staff and picks existing role and Web interface saves triples linking staff to project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b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enters new technology and Web interface saves triples linking technology to project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b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enters new dataset and Web interface saves triples linking dataset to project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. Definition of success:  triples are added to the database</a:t>
            </a:r>
            <a:endParaRPr b="0" lang="en-A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, recall – our first iteration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 that we can rapid prototype, instead of implementing an ‘interface’ as defined in the “add record”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 generated a set of instances (i.e. partial or complete record)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o tried it?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did it work/ not?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cond iteration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ing an ‘interface’ as defined in the “add record”, to generate instances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t’s talk about what they may look like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’s next …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Case 2: Produce Program Technology Inventory 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Case 2: Produce Program Technology Inventory 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 Defini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ency program manager gets a report on what technologies are being used in his program.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mary Actor:  Agency program manager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rpose:  Get a report on technology usage for planning purposes (or occasional “fire drill”).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umptions:   The program’s projects have been entered into the triple store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duce Technology Inventory, cont.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 startAt="6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enario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pulls up Technology Inventory Report and selects from available programs.</a:t>
            </a:r>
            <a:endParaRPr b="0" lang="en-AU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Interface queries triple store for technologies used by projects within the select program and generates a report.</a:t>
            </a:r>
            <a:endParaRPr b="0" lang="en-AU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. Extensions: None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. Definition of success:  Program Manager gets a formatted list of which projects are using which technologies within his / her program.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. Notes:  This scenario is not uncommon, particularly for new technologies.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y and What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420920"/>
            <a:ext cx="9143640" cy="5148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d PM Session 1</a:t>
            </a:r>
            <a:endParaRPr b="0" lang="en-A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roduction – 10 mins – Peter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case – motivation and scope – 20 mins - Chris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l – based on use case, start with domain model and proceed to ontology model and then show them how to engineer it (i.e. a piece of it) – 1 hr – Peter and Rob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d PM Session 2</a:t>
            </a:r>
            <a:endParaRPr b="0" lang="en-A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l ctd – 20 mins – Peter and Rob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stance generation and population (how to? Write turtle, use Protégé, …), triple store ingest, web form – demo – 1 hr – Peter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mmary and evaluation – 10 mins –Hook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and how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20920"/>
            <a:ext cx="9143640" cy="5148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u AM Session 3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ro to these sessions – 10 min - Peter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lication definition – decompose use case, review technology and dependencies, examine requirements for search and report, add/ correct instances, technology dependencies – 30 mins – Peter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aluation –10 mins - Hook 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u AM Session 4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ery development – query introduction, SPARQL tutorial, generate SPARQL, follow along, provide a web query form, cut paste query into a textbox and execute and get result, for visual or text traversal - 1hr – Hook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aluation –10 mins - Hook 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ems that would lead into intermediate (next) tutorial – 20 mins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lication definition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ans examine the use case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ope the first iteration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ful to think about metrics and record baselines (if they exist)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013DCB-A5D7-4503-BA89-C308A46CAB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tion Basics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28600" y="990720"/>
            <a:ext cx="8610120" cy="5333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your use case with team and experts</a:t>
            </a:r>
            <a:endParaRPr b="0" lang="en-A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 into detail of your ontology; test it using the tools you have</a:t>
            </a:r>
            <a:endParaRPr b="0" lang="en-A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k at the use case document and examine the actors, process flow, artifacts, etc.</a:t>
            </a:r>
            <a:endParaRPr b="0" lang="en-A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rt to develop a design and an architecture </a:t>
            </a:r>
            <a:endParaRPr b="0" lang="en-A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in mind that it is more flexible to place the formal semantics within your interfaces, i.e. between layers and components in your architecture or betwe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users’ and ‘information’ to mediate the exchange</a:t>
            </a:r>
            <a:endParaRPr b="0" lang="en-A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7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ors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440" cy="5943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nitial analysis will often have many human actors</a:t>
            </a:r>
            <a:endParaRPr b="0" lang="en-AU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k to see where the human actors can be replaced with machine actors – many will require additional semantics, i.e. knowledge encoding</a:t>
            </a:r>
            <a:endParaRPr b="0" lang="en-AU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you are doing this in a team, take steps to ensure that actors know their role and what inputs, outputs and preconditions are expected </a:t>
            </a:r>
            <a:endParaRPr b="0" lang="en-AU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ten, you may be able t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run’ the use case (really the model) before you build anything</a:t>
            </a:r>
            <a:endParaRPr b="0" lang="en-A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1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C76A13-F3DE-4EDA-98FC-CE0534F0AD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29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flow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534160" cy="5714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element in the process flow usually denotes a distinct stage in what will need to be implemented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ten, actors mediate the process flow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der the activity diagram (and often a state diagram) as a means to turn the written process flow into a visual one that your experts can review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 sure the artifacts and services have an entry in the resources section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ten the time you may do some searching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62A6F9-D431-4868-BFB2-E11DA9750F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conditions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ten the preconditions are very syntactic and may not be ready to fit with your semantically-rich implementation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 level of modeling of these preconditions may be required (often this will not be in your first-pass knowledge encoding, which focuses on the main process flow, i.e. goal, description, etc.)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ware of using other entities data and services: e.g., policies, access rights, registration,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cost’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28286C-409A-4028-9805-C5CB0F5059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tifacts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3640" cy="5790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artifacts that the use case generates to the resources list in the table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often useful to record which artifacts are critical and which are of secondary importance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 thinking of provenance and the way these artifacts were produced, i.e. what semantics went into them use this information to produce suitable metadata or annotations 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age the actors to determine the names of these artifacts and who should have responsibility for them  (usually you want the actors to have responsibility for evolution)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1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184F8B-47AF-4C45-ABD1-EA9538FE51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4</TotalTime>
  <Application>LibreOffice/7.4.7.2$Linux_X86_64 LibreOffice_project/40$Build-2</Application>
  <AppVersion>15.0000</AppVersion>
  <Words>1243</Words>
  <Paragraphs>12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8:51:09Z</dcterms:created>
  <dc:creator>Peter Fox</dc:creator>
  <dc:description/>
  <dc:language>en-US</dc:language>
  <cp:lastModifiedBy>Peter Fox</cp:lastModifiedBy>
  <dcterms:modified xsi:type="dcterms:W3CDTF">2011-01-06T14:52:11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7</vt:r8>
  </property>
  <property fmtid="{D5CDD505-2E9C-101B-9397-08002B2CF9AE}" pid="3" name="PresentationFormat">
    <vt:lpwstr>On-screen Show (4:3)</vt:lpwstr>
  </property>
  <property fmtid="{D5CDD505-2E9C-101B-9397-08002B2CF9AE}" pid="4" name="Slides">
    <vt:r8>19</vt:r8>
  </property>
</Properties>
</file>